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D4F-B368-4BC8-9C70-603CA3CC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485-8C40-41AB-85A0-7A7A2371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37A-0FF1-49D4-848D-3BBCD3D3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951-A5FE-44E8-9F91-CDED3D7A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CF85-6743-4943-AEAC-79E1CC81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5098-B9DD-495E-983B-BBACB8DF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25DD-B2CB-449A-98CB-81893DF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108-1BF5-4E93-9E82-1A7420B9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E5E2-BAC2-4E4E-82BD-564086E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3855-DEC9-40FB-AB54-F1727B87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EDB3-DD13-45E5-9855-BBB3176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223-F6A6-440E-8B9E-BBE570C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7FA9-4CEA-4521-925D-B8CE5CC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1F0-CFCD-4DA6-AD6A-980E3B3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1DE3-BA80-4550-9D97-D5F0859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536C-35C5-4D81-8005-D6450FF1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7784-3B04-41D5-826A-EDBDC54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56A-6F04-45F1-B2C4-77F777D2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649-B718-48C3-9504-11DA137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694-933E-4A12-8C29-C38F57A0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969-967A-43C0-9C4F-594300DC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1B4-BCE9-4E38-8EDE-AEE636D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267-491B-4656-AAFF-0C1CA358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230-CC0C-423B-9FD3-769B590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47AE-0E32-44F0-BAD6-F1E44D403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9B8-61B7-4668-8B11-E0E6DCB4E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Rhwygo tudalennau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17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Petaech yn rhwygo’r tudalennau canlynol o lyfr, sawl tudalen fyddech chi yn rhwygo o’r llyfr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Y tudalennau yw 4, 5, 24, 47 a 48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09744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56:54Z</dcterms:created>
  <dc:creator>Carwyn</dc:creator>
  <dc:description/>
  <dc:language>en-US</dc:language>
  <cp:lastModifiedBy>Carwyn</cp:lastModifiedBy>
  <dcterms:modified xsi:type="dcterms:W3CDTF">2009-01-06T12:00:33Z</dcterms:modified>
  <cp:revision>3</cp:revision>
  <dc:subject/>
  <dc:title>Rhwygo tudalennau</dc:title>
</cp:coreProperties>
</file>